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16D-252E-49CF-B57E-2EB46B1C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F99-53DC-435C-9FE0-C47A0A57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C57-CBFA-44C4-90AB-16A2F750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2B2-1922-460E-AF52-A27CC84F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3A9-FE29-48BC-A71E-2A44CD26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C51-7E89-4FFB-9593-B2728C2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66A-024A-44F9-AA5C-3FF71000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706-095C-4640-A864-B81CBF31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650-D005-418E-AD11-FE107447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414-74B9-4C8B-BDE9-4660BB3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4FA-8693-49A5-8F2D-B7FB914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45C-FDB3-410C-A589-DF8A228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D3D-DAB0-4E10-B27B-C2D68A4B8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3:05:01Z</dcterms:created>
  <dc:creator>Sharon Shelhamer</dc:creator>
  <dc:description/>
  <dc:language>en-US</dc:language>
  <cp:lastModifiedBy>Sharon Shelhamer</cp:lastModifiedBy>
  <dcterms:modified xsi:type="dcterms:W3CDTF">2011-09-25T13:18:03Z</dcterms:modified>
  <cp:revision>2</cp:revision>
  <dc:subject/>
  <dc:title>Slide 1</dc:title>
</cp:coreProperties>
</file>